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6.png" ContentType="image/png"/>
  <Override PartName="/ppt/media/image3.pct" ContentType="image/x-pict"/>
  <Override PartName="/ppt/media/image5.png" ContentType="image/png"/>
  <Override PartName="/ppt/media/image32.pct" ContentType="image/x-pict"/>
  <Override PartName="/ppt/media/image2.pct" ContentType="image/x-pict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631-1AE9-4F97-A61E-9448E3DB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6CDB-9858-4D01-A512-614A1D74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FE7-0C6D-413A-8B9F-75A8E812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290-163C-48CA-B2F0-EBB7E4B2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C14-D9DE-46C3-AB3F-F40BF526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CC5-F62B-45DC-9332-0393D05C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6E0-A803-40C3-8945-C886D088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FFA-1C9F-4136-8A52-664B503C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56B-AA6A-4516-97CB-4E891273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719-6B55-4482-BE68-5193D855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AC2E-75D4-4F14-A4FA-873F0CCB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4943-B726-450E-AE03-459CC9F5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D11C-B2C8-42EA-B89B-0374E82E0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hyperlink" Target="http://www.99centwholesale.com/" TargetMode="External"/><Relationship Id="rId4" Type="http://schemas.openxmlformats.org/officeDocument/2006/relationships/hyperlink" Target="http://www.dollaritem.com/" TargetMode="External"/><Relationship Id="rId5" Type="http://schemas.openxmlformats.org/officeDocument/2006/relationships/hyperlink" Target="http://www.buckwholesale.com/" TargetMode="External"/><Relationship Id="rId6" Type="http://schemas.openxmlformats.org/officeDocument/2006/relationships/hyperlink" Target="http://www.dollarbins.com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629400" y="441972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143000" y="0"/>
            <a:ext cx="7086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http://www.99centwholesale.com/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85760" y="1778040"/>
            <a:ext cx="697248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04840" y="1581120"/>
            <a:ext cx="693432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6870600" cy="3022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981080" y="3657600"/>
            <a:ext cx="6946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11320" y="2171880"/>
            <a:ext cx="69213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36520" y="2070000"/>
            <a:ext cx="6870960" cy="27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04840" y="1701720"/>
            <a:ext cx="693432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79640" y="1708200"/>
            <a:ext cx="6984720" cy="34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66680" y="1746360"/>
            <a:ext cx="701064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92240" y="2050920"/>
            <a:ext cx="6959520" cy="27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7023240" cy="3568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676520" y="3124080"/>
            <a:ext cx="70610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828800" y="3429000"/>
            <a:ext cx="6997680" cy="278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" y="457200"/>
            <a:ext cx="702324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54080" y="1676520"/>
            <a:ext cx="703584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92240" y="2190600"/>
            <a:ext cx="6959520" cy="24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120760" y="291960"/>
            <a:ext cx="4902480" cy="62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9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66688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tual Dollar $tores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99centwholesale.com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dollaritem.com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www.buckwholesale.com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www.dollarbins.com/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76640" y="152280"/>
            <a:ext cx="459072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30400" y="1758960"/>
            <a:ext cx="6883200" cy="33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96840" y="1434960"/>
            <a:ext cx="7150320" cy="39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701064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79640" y="2050920"/>
            <a:ext cx="6984720" cy="2756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981080" y="3733920"/>
            <a:ext cx="6985080" cy="29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6934320" cy="3263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447920" y="2133720"/>
            <a:ext cx="6908760" cy="3238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057400" y="3200400"/>
            <a:ext cx="688356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23920" y="2184480"/>
            <a:ext cx="6896160" cy="24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566720"/>
            <a:ext cx="9144000" cy="372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4:04:16Z</dcterms:created>
  <dc:creator>Trial User</dc:creator>
  <dc:description/>
  <dc:language>en-US</dc:language>
  <cp:lastModifiedBy>Mark Roddy</cp:lastModifiedBy>
  <dcterms:modified xsi:type="dcterms:W3CDTF">2005-04-06T22:48:11Z</dcterms:modified>
  <cp:revision>12</cp:revision>
  <dc:subject/>
  <dc:title>PowerPoint Presentation</dc:title>
</cp:coreProperties>
</file>